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type.wav" ContentType="audio/x-wav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B2B-A341-4783-98AF-11A8B535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DE09-6C55-49CF-B43E-7B1C657E8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F1D6-8DAE-4B92-813A-6C2167D8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104B-9C80-47E1-8402-41C9ED613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E886-403F-45D4-A14F-62F8555AE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0B03-8ACC-49B4-A37F-0549EFA86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5BD0-3433-4226-8CC3-FF395AD2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5D86-94B5-4F8C-B543-32BF4DCAC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0E05-7FA6-40B4-9F93-F23BF7F3F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9A25-3E44-4C6B-B715-3192177D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F368-AD2F-4436-BF83-B08D8E2E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0AFE-A1F5-49B5-A5F5-B6807597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D999-EC01-4E30-81D3-62D77A31A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8651-24FB-4EE7-B327-41E5F9D50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FD2-8225-48B4-BBFD-30E35A1BB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4CDE-1D6D-4B31-AD0F-2488F2AE0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418A-2DB8-48B4-9F48-3AD0DF0F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C1ED-563E-4560-9CA6-70D89174F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3523-10BD-4A23-9980-5E58773EE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CCA-957D-49F1-BA38-8CAFD4AD5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3ED-E289-42DB-9DA9-00F9AEE9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045D-2F25-402B-BEBB-7157BE76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7B6-524A-4092-AD6C-46337A33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97B-8707-40F8-A2DD-B043EEB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999-1C43-44CF-9710-EDD7D9AF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B06-37BA-4679-8FCE-079E5D86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57B-9046-4337-8E8F-BA767888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94F-42AA-46B8-A21E-92736F15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B92-866B-4A88-99CD-49858620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970-0612-43D6-8BEB-DDE5C29F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865-2150-4974-B368-97711D7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DBB-06B0-449B-942A-D90A94E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DC6-791F-415A-B3A9-736D42C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EF4-B555-45A2-9114-57AEC2F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EA43-AA79-4771-A6C2-53AB2D13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492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1" lang="ja-JP" sz="54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 Learn Abou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1523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Cal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s00995_"/>
          <p:cNvPicPr/>
          <p:nvPr/>
        </p:nvPicPr>
        <p:blipFill>
          <a:blip r:embed="rId1"/>
          <a:stretch/>
        </p:blipFill>
        <p:spPr>
          <a:xfrm>
            <a:off x="2133720" y="2895480"/>
            <a:ext cx="2205000" cy="346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s00995_"/>
          <p:cNvPicPr/>
          <p:nvPr/>
        </p:nvPicPr>
        <p:blipFill>
          <a:blip r:embed="rId2"/>
          <a:stretch/>
        </p:blipFill>
        <p:spPr>
          <a:xfrm>
            <a:off x="3657600" y="2895480"/>
            <a:ext cx="2205000" cy="346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s00995_"/>
          <p:cNvPicPr/>
          <p:nvPr/>
        </p:nvPicPr>
        <p:blipFill>
          <a:blip r:embed="rId3"/>
          <a:stretch/>
        </p:blipFill>
        <p:spPr>
          <a:xfrm>
            <a:off x="5257800" y="2895480"/>
            <a:ext cx="2205000" cy="346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bk00014_"/>
          <p:cNvPicPr/>
          <p:nvPr/>
        </p:nvPicPr>
        <p:blipFill>
          <a:blip r:embed="rId4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3808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So a nonfiction call number for a mammal book by </a:t>
            </a: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Jane Mosley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 would look like th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3657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5800" y="40989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599                     Mos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How do we put nonfiction call numbers in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3276720"/>
            <a:ext cx="8001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99"/>
                </a:solidFill>
                <a:latin typeface="Comic Sans MS"/>
              </a:rPr>
              <a:t>Nonfiction call numbers are put in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umber order first, 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then in ABC ord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4572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One kind of nonfiction book has a different recipe from the rest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38080" y="396252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biograph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04920" y="3808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What is a biograph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04920" y="17524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A book about the life of a famous pers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Biography call numbers have their own special reci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6"/>
          <p:cNvSpPr/>
          <p:nvPr/>
        </p:nvSpPr>
        <p:spPr>
          <a:xfrm>
            <a:off x="533520" y="380880"/>
            <a:ext cx="830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Our biography call numbers are made up of two par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457200" y="28954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B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(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or biograp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457200" y="4114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famous person</a:t>
            </a:r>
            <a:r>
              <a:rPr b="1" lang="ja-JP" sz="4800" spc="-1" strike="noStrike" u="sng">
                <a:solidFill>
                  <a:srgbClr val="ff0000"/>
                </a:solidFill>
                <a:uFillTx/>
                <a:latin typeface="Comic Sans MS"/>
              </a:rPr>
              <a:t>’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s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last name 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(not the author</a:t>
            </a:r>
            <a:r>
              <a:rPr b="1" lang="ja-JP" sz="4000" spc="-1" strike="noStrike">
                <a:solidFill>
                  <a:srgbClr val="009900"/>
                </a:solidFill>
                <a:latin typeface="Comic Sans MS"/>
              </a:rPr>
              <a:t>’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s na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29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066680" y="380880"/>
            <a:ext cx="8001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So the call number    for a biography about    </a:t>
            </a: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George Washington  </a:t>
            </a: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ould look like thi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752480" y="36576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00200" y="4876920"/>
            <a:ext cx="59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Washingt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14400" y="3808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What would the call number for a biography about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Troy Aikman 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look lik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3581280"/>
            <a:ext cx="7315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Aikma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5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54936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How are biography call numbers put in ord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3520" y="2727360"/>
            <a:ext cx="8076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Since our biography call numbers have a B, they are put in </a:t>
            </a:r>
            <a:r>
              <a:rPr b="1" lang="en-US" sz="5000" spc="-1" strike="noStrike">
                <a:solidFill>
                  <a:srgbClr val="009900"/>
                </a:solidFill>
                <a:latin typeface="Comic Sans MS"/>
              </a:rPr>
              <a:t>ABC order by name of famous person</a:t>
            </a:r>
            <a:r>
              <a:rPr b="1" lang="en-US" sz="5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838080" y="3049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A reference call number is made up of two par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120" y="3276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Ref</a:t>
            </a: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(for refer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5800" y="44197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Numbers for the subject (like nonfic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09480" y="3808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So a reference call number for a dictionary would look like th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523880" y="403848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Ref</a:t>
            </a: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              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B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26"/>
          <p:cNvSpPr/>
          <p:nvPr/>
        </p:nvSpPr>
        <p:spPr>
          <a:xfrm>
            <a:off x="762120" y="68904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Remember, a        </a:t>
            </a:r>
            <a:r>
              <a:rPr b="1" lang="en-US" sz="5400" spc="-1" strike="noStrike">
                <a:solidFill>
                  <a:srgbClr val="00b050"/>
                </a:solidFill>
                <a:latin typeface="Comic Sans MS"/>
              </a:rPr>
              <a:t>call number 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is like the book</a:t>
            </a:r>
            <a:r>
              <a:rPr b="1" lang="ja-JP" sz="54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s address in the library.  It tells where the book lives on the library shel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09480" y="380880"/>
            <a:ext cx="82296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Other book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asy fiction 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marked by an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 and author</a:t>
            </a:r>
            <a:r>
              <a:rPr b="1" lang="ja-JP" sz="48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s last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ory collection 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marked by an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C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 and author</a:t>
            </a:r>
            <a:r>
              <a:rPr b="1" lang="ja-JP" sz="48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s last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66680" y="126684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Now you know all about the call numbers in our libra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380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Our library has four different sections, so we have four kinds of call number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-1219320" y="228600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fi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04920" y="31240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nonfi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37160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biograph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572000" y="51055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efer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047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Today we</a:t>
            </a:r>
            <a:r>
              <a:rPr b="1" lang="ja-JP" sz="54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re going to learn the recipe for making all four kinds of call numb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bd04923_"/>
          <p:cNvPicPr/>
          <p:nvPr/>
        </p:nvPicPr>
        <p:blipFill>
          <a:blip r:embed="rId2"/>
          <a:stretch/>
        </p:blipFill>
        <p:spPr>
          <a:xfrm>
            <a:off x="1143000" y="4114800"/>
            <a:ext cx="1403280" cy="215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bd04923_"/>
          <p:cNvPicPr/>
          <p:nvPr/>
        </p:nvPicPr>
        <p:blipFill>
          <a:blip r:embed="rId3"/>
          <a:stretch/>
        </p:blipFill>
        <p:spPr>
          <a:xfrm>
            <a:off x="3625920" y="4114800"/>
            <a:ext cx="1403280" cy="21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bd04923_"/>
          <p:cNvPicPr/>
          <p:nvPr/>
        </p:nvPicPr>
        <p:blipFill>
          <a:blip r:embed="rId4"/>
          <a:stretch/>
        </p:blipFill>
        <p:spPr>
          <a:xfrm>
            <a:off x="6172200" y="4038480"/>
            <a:ext cx="14032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533520" y="3808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A fiction call number is made up of two par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32767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57200" y="32608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6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(for fic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4956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first three letters in the author</a:t>
            </a:r>
            <a:r>
              <a:rPr b="1" lang="ja-JP" sz="54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 last 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So a fiction call number for the author,   </a:t>
            </a: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Beverly Cleary</a:t>
            </a: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 would look like th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09680" y="3962520"/>
            <a:ext cx="48769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F        Cle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80880" y="304920"/>
            <a:ext cx="8610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99"/>
                </a:solidFill>
                <a:latin typeface="Comic Sans MS"/>
              </a:rPr>
              <a:t>What would the fiction call number for the author, </a:t>
            </a:r>
            <a:r>
              <a:rPr b="1" lang="en-US" sz="5800" spc="-1" strike="noStrike">
                <a:solidFill>
                  <a:srgbClr val="009900"/>
                </a:solidFill>
                <a:latin typeface="Comic Sans MS"/>
              </a:rPr>
              <a:t>Matt Christopher</a:t>
            </a:r>
            <a:r>
              <a:rPr b="1" lang="en-US" sz="5800" spc="-1" strike="noStrike">
                <a:solidFill>
                  <a:srgbClr val="000099"/>
                </a:solidFill>
                <a:latin typeface="Comic Sans MS"/>
              </a:rPr>
              <a:t> look like?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71600" y="42670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F           Ch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3520" y="412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How do we put fiction call numbers in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22860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ink……How can we put letters in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3886200"/>
            <a:ext cx="8686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That</a:t>
            </a:r>
            <a:r>
              <a:rPr b="1" lang="ja-JP" sz="4400" spc="-1" strike="noStrike">
                <a:solidFill>
                  <a:srgbClr val="009900"/>
                </a:solidFill>
                <a:latin typeface="Comic Sans MS"/>
              </a:rPr>
              <a:t>’</a:t>
            </a: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s right, fiction and easy fiction call numbers are in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BC ord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09480" y="26028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Nonfiction call numbers are made up of two part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30481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Numbers</a:t>
            </a: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(for the subjec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41911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first three letters in the author</a:t>
            </a:r>
            <a:r>
              <a:rPr b="1" lang="ja-JP" sz="54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 last 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7:17:40Z</dcterms:created>
  <dc:creator>Faye Humbard</dc:creator>
  <dc:description/>
  <dc:language>en-US</dc:language>
  <cp:lastModifiedBy>Mary Alice Osborne</cp:lastModifiedBy>
  <dcterms:modified xsi:type="dcterms:W3CDTF">2011-09-25T16:27:38Z</dcterms:modified>
  <cp:revision>90</cp:revision>
  <dc:subject/>
  <dc:title>PowerPoint Presentation</dc:title>
</cp:coreProperties>
</file>